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D1FC-02B7-49C9-8480-7EC1D37CCE4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3549-0286-4871-8D22-FDF49724D160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B52C-C4CA-44BE-80C5-13B32C0F3B67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04CA-15A7-428C-AE1F-8B315D42B746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5144-AC7A-4827-8F55-BD9387291F4A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053C-CF91-41D1-A9B5-36E171595C57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F4BD-0CF8-4C97-8E23-D85EE8F6D978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4" name="Заметки 4"/>
          <p:cNvSpPr/>
          <p:nvPr/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6028-9184-490E-B3E7-72F7858FA2AA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30200" y="461808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BBA5-2E48-4C51-9A93-143F6B7F1F2F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8AD3-DD0D-495C-92AA-2F38C07D0005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C4AC-6409-429C-88EF-36F4265E8B47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B63-0CED-4743-AE10-31726781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717-DF13-4531-9795-58AA9135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64A-B3E4-4248-8C84-4C964B5F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6A88-CB1B-4950-9C62-6DA7AB1D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6A78-4A33-43C9-B6E3-87486B7E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630E-2167-4254-9D8E-A95AB5C8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F27B-555E-442A-BD1C-202207C9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847C-6A7B-42C4-897D-91BFB2A8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577C-0056-43A3-8F45-BF8E84B5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4A60-DA9C-467B-8944-54446B50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1E22-DD50-4CFA-B57F-34B26D80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C82-EC8E-4934-98F4-3F623766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0143-43AD-42B0-B223-34E71270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60D7-8F34-4F03-BA75-2ED1B479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C9F8-1440-4FCA-8A9A-5349481B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19BE-E45C-4BCE-9AA3-8F40737E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5B84-2781-4327-B872-040B4924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061-8097-4EB5-89A5-EA36028C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7E2-5331-44E8-9B43-961E5880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3A0-0131-42EE-8EB4-B3F01C3C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8A2-968F-4665-8CC4-573BF759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9DE-A4A8-488F-ABEC-3FF08B8B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AFD-3AA7-4BF4-B61B-DC6999DA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23A9-4BE7-4319-9A9E-CBECB128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597E-C127-4288-9980-9438E5274AE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5599-8B9B-4483-BAEF-AFDBCE84764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s://ru.wikipedia.org/wiki/8_&#1084;&#1072;&#1103;" TargetMode="External"/><Relationship Id="rId4" Type="http://schemas.openxmlformats.org/officeDocument/2006/relationships/hyperlink" Target="https://ru.wikipedia.org/wiki/1967_&#1075;&#1086;&#1076;" TargetMode="External"/><Relationship Id="rId5" Type="http://schemas.openxmlformats.org/officeDocument/2006/relationships/hyperlink" Target="https://ru.wikipedia.org/wiki/&#1052;&#1086;&#1075;&#1080;&#1083;&#1072;_&#1053;&#1077;&#1080;&#1079;&#1074;&#1077;&#1089;&#1090;&#1085;&#1086;&#1075;&#1086;_&#1057;&#1086;&#1083;&#1076;&#1072;&#1090;&#1072;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День Неизвестного Солдата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7" descr="mogila-Neizvestnogo-soldata"/>
          <p:cNvPicPr/>
          <p:nvPr/>
        </p:nvPicPr>
        <p:blipFill>
          <a:blip r:embed="rId1"/>
          <a:stretch/>
        </p:blipFill>
        <p:spPr>
          <a:xfrm>
            <a:off x="179280" y="278136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ph000125m12"/>
          <p:cNvPicPr/>
          <p:nvPr/>
        </p:nvPicPr>
        <p:blipFill>
          <a:blip r:embed="rId1"/>
          <a:stretch/>
        </p:blipFill>
        <p:spPr>
          <a:xfrm>
            <a:off x="3786120" y="4238640"/>
            <a:ext cx="3490920" cy="261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20128813644176"/>
          <p:cNvPicPr/>
          <p:nvPr/>
        </p:nvPicPr>
        <p:blipFill>
          <a:blip r:embed="rId2"/>
          <a:stretch/>
        </p:blipFill>
        <p:spPr>
          <a:xfrm>
            <a:off x="0" y="0"/>
            <a:ext cx="3809880" cy="2571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742080"/>
            <a:ext cx="82296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7" descr="05082012_7"/>
          <p:cNvPicPr/>
          <p:nvPr/>
        </p:nvPicPr>
        <p:blipFill>
          <a:blip r:embed="rId3"/>
          <a:stretch/>
        </p:blipFill>
        <p:spPr>
          <a:xfrm>
            <a:off x="0" y="2714760"/>
            <a:ext cx="3743280" cy="2639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&amp;Pcy;&amp;acy;&amp;rcy;&amp;acy; &amp;mcy;&amp;ocy;&amp;lcy;&amp;ocy;&amp;dcy;&amp;ocy;&amp;zhcy;&amp;iecy;&amp;ncy;&amp;ocy;&amp;vcy; &amp;ucy; &amp;vcy;&amp;iecy;&amp;chcy;&amp;ncy;&amp;ocy;&amp;gcy;&amp;ocy; &amp;ocy;&amp;gcy;&amp;ncy;&amp;yacy; &amp;vcy; &amp;Acy;&amp;lcy;&amp;iecy;&amp;kcy;&amp;scy;&amp;acy;&amp;ncy;&amp;dcy;&amp;rcy;&amp;ocy;&amp;vcy;&amp;scy;&amp;kcy;&amp;ocy;&amp;mcy; &amp;scy;&amp;acy;&amp;dcy;&amp;ucy;. &amp;Mcy;&amp;ocy;&amp;scy;&amp;kcy;&amp;vcy;&amp;acy;; &amp;fcy;&amp;ocy;&amp;tcy;&amp;ocy; 1682505, &amp;fcy;&amp;ocy;&amp;tcy;&amp;ocy;&amp;gcy;&amp;rcy;&amp;acy;&amp;fcy; &amp;IEcy;&amp;kcy;&amp;acy;&amp;tcy;&amp;iecy;&amp;rcy;&amp;icy;&amp;ncy;&amp;acy; &amp;Ocy;&amp;vcy;&amp;scy;&amp;yacy;&amp;ncy;&amp;ncy;&amp;icy;&amp;kcy;&amp;ocy;&amp;vcy;&amp;acy;. &amp;Fcy;&amp;ocy;&amp;tcy;&amp;ocy;&amp;bcy;&amp;acy;&amp;ncy;&amp;kcy; &amp;Lcy;&amp;ocy;&amp;rcy;&amp;icy; - &amp;Pcy;&amp;rcy;"/>
          <p:cNvPicPr/>
          <p:nvPr/>
        </p:nvPicPr>
        <p:blipFill>
          <a:blip r:embed="rId4"/>
          <a:srcRect l="5845" t="5102" r="5845" b="13606"/>
          <a:stretch/>
        </p:blipFill>
        <p:spPr>
          <a:xfrm>
            <a:off x="6676920" y="2357280"/>
            <a:ext cx="2467080" cy="23418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8"/>
          <p:cNvSpPr/>
          <p:nvPr/>
        </p:nvSpPr>
        <p:spPr>
          <a:xfrm>
            <a:off x="4000680" y="14292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е много лет прошло с тех пор, а этот памятник продолжает оставаться одним из самых известных во всей стране. Сюда приходят взрослые и дети не только в День Победы. К Вечному огню возлагают цветы молодожены, иностранные делегации и главные лица России, выказывая бесконечное уважение безымянным геро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инута молч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9" descr="&amp;Scy;&amp;ucy;&amp;scy;&amp;acy;&amp;ncy;&amp;icy;&amp;ncy; / &amp;Kcy;&amp;acy;&amp;zcy;&amp;acy;&amp;ncy;&amp;softcy; &amp;ocy;&amp;scy;&amp;tcy;&amp;acy;&amp;ncy;&amp;iecy;&amp;tcy;&amp;scy;&amp;yacy; &amp;bcy;&amp;iecy;&amp;zcy; &amp;Vcy;&amp;iecy;&amp;chcy;&amp;ncy;&amp;ocy;&amp;gcy;&amp;ocy; &amp;ocy;&amp;gcy;&amp;ncy;&amp;yacy; &amp;vcy; &amp;Dcy;&amp;iecy;&amp;ncy;&amp;softcy; &amp;Pcy;&amp;ocy;&amp;bcy;&amp;iecy;&amp;dcy;&amp;ycy;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346720"/>
          </a:xfrm>
          <a:prstGeom prst="rect">
            <a:avLst/>
          </a:prstGeom>
          <a:ln w="0">
            <a:noFill/>
          </a:ln>
        </p:spPr>
      </p:pic>
      <p:pic>
        <p:nvPicPr>
          <p:cNvPr id="132" name="metronom1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54364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знаю – никакой моей вин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ом, что другие не пришли с войн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ом, что они – кто старше, кто молож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лись там. И не о том же речь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я их мог и не сумел сбереч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чь не о том. Но все же, все же все же…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 Т. Твардовский, 1966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2" descr="450px-Berlin_Treptow_Ehrenmal_12"/>
          <p:cNvPicPr/>
          <p:nvPr/>
        </p:nvPicPr>
        <p:blipFill>
          <a:blip r:embed="rId1"/>
          <a:stretch/>
        </p:blipFill>
        <p:spPr>
          <a:xfrm>
            <a:off x="6357960" y="3071880"/>
            <a:ext cx="2536920" cy="3381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v_ogon"/>
          <p:cNvPicPr/>
          <p:nvPr/>
        </p:nvPicPr>
        <p:blipFill>
          <a:blip r:embed="rId2"/>
          <a:stretch/>
        </p:blipFill>
        <p:spPr>
          <a:xfrm>
            <a:off x="1441440" y="400536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9998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каз президента Ро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ноября 2014 года президентом Владимиром Путиным подписан указ    о введении в России нового памятного д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декабр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Неизвестного Солда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285840" y="1429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он не только увековечивает память, воинскую доблесть и бессмертный подвиг российских и советских воинов, погибших в боевых действиях на территории страны и за её пределами, чьё имя осталось неизвестным. Во многих городах России и за ее пределами есть памятники неизвестному солдату, которые «священны для нашего народа», как говорится в пояснительной записке к закон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емориал Могила Неизвестного Солдата находится в Москве в Александровском саду, у северной стены Кремля. Композиция представляет собой надгробную плиту, на которой покоится бронзовое боевое знамя. На боевом знамени лежат солдатская каска и лавровая ветвь, также изготовленные из бронзы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центре мемориала находится ниша, в середине которой, в бронзовой пятиконечной звезде горит Вечный огонь славы. Рядом с огнем из лабрадорита сделана надпись «Имя твоё неизвестно, подвиг твой бессмертен» 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5" descr="http://content.foto.mail.ru/mail/dmitriykep/_blogs/i-515.jpg"/>
          <p:cNvPicPr/>
          <p:nvPr/>
        </p:nvPicPr>
        <p:blipFill>
          <a:blip r:embed="rId1"/>
          <a:stretch/>
        </p:blipFill>
        <p:spPr>
          <a:xfrm>
            <a:off x="971640" y="1700280"/>
            <a:ext cx="7056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www.pomnite-nas.ru/img/61/201006121217260.2.jpg"/>
          <p:cNvPicPr/>
          <p:nvPr/>
        </p:nvPicPr>
        <p:blipFill>
          <a:blip r:embed="rId1"/>
          <a:stretch/>
        </p:blipFill>
        <p:spPr>
          <a:xfrm>
            <a:off x="214200" y="378612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9469569"/>
          <p:cNvPicPr/>
          <p:nvPr/>
        </p:nvPicPr>
        <p:blipFill>
          <a:blip r:embed="rId2"/>
          <a:stretch/>
        </p:blipFill>
        <p:spPr>
          <a:xfrm>
            <a:off x="214200" y="1000080"/>
            <a:ext cx="2495520" cy="1533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&amp;Pcy;&amp;ocy;&amp;chcy;&amp;iecy;&amp;tcy;&amp;ncy;&amp;ocy;&amp;mcy;&amp;ucy; &amp;kcy;&amp;acy;&amp;rcy;&amp;acy;&amp;ucy;&amp;lcy;&amp;ucy; &amp;Rcy;&amp;ocy;&amp;scy;&amp;scy;&amp;icy;&amp;icy; &amp;icy;&amp;scy;&amp;pcy;&amp;ocy;&amp;lcy;&amp;ncy;&amp;icy;&amp;lcy;&amp;ocy;&amp;scy;&amp;softcy; 55 &amp;lcy;&amp;iecy;&amp;tcy;"/>
          <p:cNvPicPr/>
          <p:nvPr/>
        </p:nvPicPr>
        <p:blipFill>
          <a:blip r:embed="rId3"/>
          <a:stretch/>
        </p:blipFill>
        <p:spPr>
          <a:xfrm>
            <a:off x="4214880" y="4071960"/>
            <a:ext cx="4608360" cy="2583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14760" y="-360"/>
            <a:ext cx="628632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стория появления этого памятника в Москве очень интересна. Широко праздновать победу в Великой Отечественной войне стали лишь в 1965 году. Тогда же Москва получила звание города-героя, а день 9-го мая стал общегосударственным праздником. Возникла идея создания памятника солдатам, сражавшимся и погибшим в боях под Москвой. Этот монумент должен быть всенародного значения, и таким памятником мог стать памятник Неизвестному Солдату. В те дни под Москвой, в Зеленограде в ходе строительных работ, была обнаружена братская могила времен войны. Решено было выбрать погибшего именно отсюда. Выбор остановили на воине в хорошо сохранившейся форме без знаков отличия. Документов при бойце не было – прах его был по-настоящему безымянным. 2 декабря 1966 года, в 14 часов 30 минут, останки воина поместили в гроб, увитый оранжево-черной лентой. Молодые солдаты, стоявшие в почетном карауле, сменялись каждые два часа весь вечер, всю ночь и утро следующего дня. 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a5182d19f9f2271dccf78cdf988_prev"/>
          <p:cNvPicPr/>
          <p:nvPr/>
        </p:nvPicPr>
        <p:blipFill>
          <a:blip r:embed="rId1"/>
          <a:stretch/>
        </p:blipFill>
        <p:spPr>
          <a:xfrm>
            <a:off x="4071960" y="214200"/>
            <a:ext cx="4897440" cy="349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f45912ba7d75e8354425904592_prev"/>
          <p:cNvPicPr/>
          <p:nvPr/>
        </p:nvPicPr>
        <p:blipFill>
          <a:blip r:embed="rId2"/>
          <a:stretch/>
        </p:blipFill>
        <p:spPr>
          <a:xfrm>
            <a:off x="285840" y="3857760"/>
            <a:ext cx="4932360" cy="269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www.netall.ru/gnn/memorials/40/1.jpg"/>
          <p:cNvPicPr/>
          <p:nvPr/>
        </p:nvPicPr>
        <p:blipFill>
          <a:blip r:embed="rId3"/>
          <a:stretch/>
        </p:blipFill>
        <p:spPr>
          <a:xfrm>
            <a:off x="5500800" y="4357800"/>
            <a:ext cx="309708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357120" y="357120"/>
            <a:ext cx="314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 декабря в 11 часов 45 минут гроб установили на открытую машину, которая двинулась по Ленинградскому шоссе к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3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275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%D0%A4%D0%BE%D1%82%D0%BE20_Vdovenco"/>
          <p:cNvPicPr/>
          <p:nvPr/>
        </p:nvPicPr>
        <p:blipFill>
          <a:blip r:embed="rId2"/>
          <a:stretch/>
        </p:blipFill>
        <p:spPr>
          <a:xfrm>
            <a:off x="3492360" y="2933640"/>
            <a:ext cx="5486400" cy="39243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286160" y="64296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Манежной площади состоялся митинг. Гроб с останками Неизвестного солдата под артиллерийский залп был опущен в могил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енщины, не дождавшиеся своих сыновей и  мужей приходили поклониться праху неизвестного солдата.</a:t>
            </a:r>
            <a:br>
              <a:rPr sz="14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4" descr="59f5900ddf52d9cc33124f5ff80_prev"/>
          <p:cNvPicPr/>
          <p:nvPr/>
        </p:nvPicPr>
        <p:blipFill>
          <a:blip r:embed="rId1"/>
          <a:stretch/>
        </p:blipFill>
        <p:spPr>
          <a:xfrm>
            <a:off x="179280" y="189000"/>
            <a:ext cx="4611960" cy="3111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&amp;Rcy;&amp;iecy;&amp;tcy;&amp;rcy;&amp;ocy;&amp;Mcy;&amp;Ocy;&amp;Scy;&amp;fcy;&amp;ocy;&amp;tcy;&amp;ocy; - &amp;Mcy;&amp;ocy;&amp;gcy;&amp;icy;&amp;lcy;&amp;acy; &amp;Ncy;&amp;iecy;&amp;icy;&amp;zcy;&amp;vcy;&amp;iecy;&amp;scy;&amp;tcy;&amp;ncy;&amp;ocy;&amp;gcy;&amp;ocy; &amp;Scy;&amp;ocy;&amp;lcy;&amp;dcy;&amp;acy;&amp;tcy;&amp;acy;"/>
          <p:cNvPicPr/>
          <p:nvPr/>
        </p:nvPicPr>
        <p:blipFill>
          <a:blip r:embed="rId2"/>
          <a:stretch/>
        </p:blipFill>
        <p:spPr>
          <a:xfrm>
            <a:off x="5734080" y="2095560"/>
            <a:ext cx="3409920" cy="4762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ttp://mosarchiv.mos.ru/downloads/public/mogila/12.jpg"/>
          <p:cNvPicPr/>
          <p:nvPr/>
        </p:nvPicPr>
        <p:blipFill>
          <a:blip r:embed="rId3"/>
          <a:stretch/>
        </p:blipFill>
        <p:spPr>
          <a:xfrm>
            <a:off x="179280" y="3403440"/>
            <a:ext cx="4608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220px-Changing_Guard_Alexander_Garden_Moscow"/>
          <p:cNvPicPr/>
          <p:nvPr/>
        </p:nvPicPr>
        <p:blipFill>
          <a:blip r:embed="rId1"/>
          <a:stretch/>
        </p:blipFill>
        <p:spPr>
          <a:xfrm>
            <a:off x="7048440" y="260280"/>
            <a:ext cx="2095560" cy="3143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http://moscow-live.ru/g2/main.php?g2_view=core.DownloadItem&amp;g2_itemId=15156&amp;g2_serialNumber=2"/>
          <p:cNvPicPr/>
          <p:nvPr/>
        </p:nvPicPr>
        <p:blipFill>
          <a:blip r:embed="rId2"/>
          <a:stretch/>
        </p:blipFill>
        <p:spPr>
          <a:xfrm>
            <a:off x="179280" y="2133720"/>
            <a:ext cx="6480360" cy="4329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500040" y="500040"/>
            <a:ext cx="63579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8 м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1967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 месте перезахоронения открыт мемориальный архитектурный ансамбль «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Могила Неизвестного Солда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 В том же году правительством было принято решение о ежечасной смене постовых полка № 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12:48:21Z</dcterms:created>
  <dc:creator>Olga</dc:creator>
  <dc:description/>
  <dc:language>en-US</dc:language>
  <cp:lastModifiedBy>MASTER</cp:lastModifiedBy>
  <cp:lastPrinted>2020-12-01T09:31:55Z</cp:lastPrinted>
  <dcterms:modified xsi:type="dcterms:W3CDTF">2020-12-01T09:32:34Z</dcterms:modified>
  <cp:revision>26</cp:revision>
  <dc:subject/>
  <dc:title>3 декабря - День памяти Неизвестного Солдата</dc:title>
</cp:coreProperties>
</file>